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6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E53-5CD9-4143-BD63-E95563AB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B7C-8D89-4E92-9D7E-7D934881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F72-F457-4C16-8737-0BAB95FE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DB6-D45D-4C58-91D4-1E9B70CE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646-1CFA-443B-B1EF-1F2C67F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271-B726-41B9-AB01-9EAD1974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875-1ADE-4ABF-A389-3E0AA51A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5AC-1E13-4E94-9B96-26954BDE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8A2-9C9C-493A-BF29-4E3348A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B25-68DE-4BB3-B765-D8CE750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4D6-1735-42B2-ABDD-B45DAED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840-CAC6-4177-9FEB-016D087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1AF-AAF0-45CA-9DC3-26A916648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wmf"/><Relationship Id="rId18" Type="http://schemas.openxmlformats.org/officeDocument/2006/relationships/image" Target="../media/image4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8.wmf"/><Relationship Id="rId23" Type="http://schemas.openxmlformats.org/officeDocument/2006/relationships/image" Target="../media/image9.wmf"/><Relationship Id="rId24" Type="http://schemas.openxmlformats.org/officeDocument/2006/relationships/image" Target="../media/image9.wmf"/><Relationship Id="rId25" Type="http://schemas.openxmlformats.org/officeDocument/2006/relationships/image" Target="../media/image10.wmf"/><Relationship Id="rId26" Type="http://schemas.openxmlformats.org/officeDocument/2006/relationships/image" Target="../media/image11.wmf"/><Relationship Id="rId27" Type="http://schemas.openxmlformats.org/officeDocument/2006/relationships/image" Target="../media/image12.wmf"/><Relationship Id="rId28" Type="http://schemas.openxmlformats.org/officeDocument/2006/relationships/image" Target="../media/image13.wmf"/><Relationship Id="rId29" Type="http://schemas.openxmlformats.org/officeDocument/2006/relationships/image" Target="../media/image9.wmf"/><Relationship Id="rId30" Type="http://schemas.openxmlformats.org/officeDocument/2006/relationships/image" Target="../media/image9.wmf"/><Relationship Id="rId31" Type="http://schemas.openxmlformats.org/officeDocument/2006/relationships/image" Target="../media/image10.wmf"/><Relationship Id="rId32" Type="http://schemas.openxmlformats.org/officeDocument/2006/relationships/image" Target="../media/image9.wmf"/><Relationship Id="rId33" Type="http://schemas.openxmlformats.org/officeDocument/2006/relationships/image" Target="../media/image9.wmf"/><Relationship Id="rId34" Type="http://schemas.openxmlformats.org/officeDocument/2006/relationships/image" Target="../media/image10.wmf"/><Relationship Id="rId35" Type="http://schemas.openxmlformats.org/officeDocument/2006/relationships/image" Target="../media/image11.wmf"/><Relationship Id="rId36" Type="http://schemas.openxmlformats.org/officeDocument/2006/relationships/image" Target="../media/image12.wmf"/><Relationship Id="rId37" Type="http://schemas.openxmlformats.org/officeDocument/2006/relationships/image" Target="../media/image13.wm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1.wmf"/><Relationship Id="rId42" Type="http://schemas.openxmlformats.org/officeDocument/2006/relationships/image" Target="../media/image12.wmf"/><Relationship Id="rId43" Type="http://schemas.openxmlformats.org/officeDocument/2006/relationships/image" Target="../media/image13.wmf"/><Relationship Id="rId44" Type="http://schemas.openxmlformats.org/officeDocument/2006/relationships/image" Target="../media/image2.wmf"/><Relationship Id="rId45" Type="http://schemas.openxmlformats.org/officeDocument/2006/relationships/image" Target="../media/image3.wmf"/><Relationship Id="rId46" Type="http://schemas.openxmlformats.org/officeDocument/2006/relationships/image" Target="../media/image4.wmf"/><Relationship Id="rId47" Type="http://schemas.openxmlformats.org/officeDocument/2006/relationships/image" Target="../media/image5.wmf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6.wmf"/><Relationship Id="rId61" Type="http://schemas.openxmlformats.org/officeDocument/2006/relationships/image" Target="../media/image7.wmf"/><Relationship Id="rId62" Type="http://schemas.openxmlformats.org/officeDocument/2006/relationships/image" Target="../media/image6.wmf"/><Relationship Id="rId63" Type="http://schemas.openxmlformats.org/officeDocument/2006/relationships/image" Target="../media/image7.wmf"/><Relationship Id="rId64" Type="http://schemas.openxmlformats.org/officeDocument/2006/relationships/image" Target="../media/image14.png"/><Relationship Id="rId6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9.wmf"/><Relationship Id="rId29" Type="http://schemas.openxmlformats.org/officeDocument/2006/relationships/image" Target="../media/image9.wmf"/><Relationship Id="rId30" Type="http://schemas.openxmlformats.org/officeDocument/2006/relationships/image" Target="../media/image10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10.wmf"/><Relationship Id="rId34" Type="http://schemas.openxmlformats.org/officeDocument/2006/relationships/image" Target="../media/image6.wmf"/><Relationship Id="rId35" Type="http://schemas.openxmlformats.org/officeDocument/2006/relationships/image" Target="../media/image7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6.wmf"/><Relationship Id="rId39" Type="http://schemas.openxmlformats.org/officeDocument/2006/relationships/image" Target="../media/image7.wmf"/><Relationship Id="rId40" Type="http://schemas.openxmlformats.org/officeDocument/2006/relationships/image" Target="../media/image2.wmf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5.wmf"/><Relationship Id="rId44" Type="http://schemas.openxmlformats.org/officeDocument/2006/relationships/image" Target="../media/image2.wmf"/><Relationship Id="rId45" Type="http://schemas.openxmlformats.org/officeDocument/2006/relationships/image" Target="../media/image3.wmf"/><Relationship Id="rId46" Type="http://schemas.openxmlformats.org/officeDocument/2006/relationships/image" Target="../media/image4.wmf"/><Relationship Id="rId47" Type="http://schemas.openxmlformats.org/officeDocument/2006/relationships/image" Target="../media/image5.wmf"/><Relationship Id="rId4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6413480" y="106345080"/>
            <a:ext cx="7200720" cy="7680240"/>
            <a:chOff x="106413480" y="106345080"/>
            <a:chExt cx="7200720" cy="7680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8795" t="6846" r="12062" b="0"/>
            <a:stretch/>
          </p:blipFill>
          <p:spPr>
            <a:xfrm>
              <a:off x="106413480" y="1063450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 txBox="1"/>
            <p:nvPr/>
          </p:nvSpPr>
          <p:spPr>
            <a:xfrm>
              <a:off x="107213400" y="1088136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5202080" y="10634508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10185200" y="10634508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0520208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1356344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09842480" y="10949940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0944800">
            <a:off x="106299000" y="10927080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05727680" y="10652760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05163920" y="106527600"/>
            <a:ext cx="9821880" cy="720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05260760" y="1066420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105338520" y="1128142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105616440" y="107670600"/>
            <a:ext cx="902952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0641800">
            <a:off x="105500520" y="10894212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105384600" y="1084708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 rot="21421800">
            <a:off x="108251280" y="1091498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11556800" y="106870680"/>
            <a:ext cx="3174840" cy="35431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06565760" y="106497360"/>
            <a:ext cx="7200720" cy="7680240"/>
            <a:chOff x="106565760" y="106497360"/>
            <a:chExt cx="7200720" cy="7680240"/>
          </a:xfrm>
        </p:grpSpPr>
        <p:pic>
          <p:nvPicPr>
            <p:cNvPr id="60" name="" descr=""/>
            <p:cNvPicPr/>
            <p:nvPr/>
          </p:nvPicPr>
          <p:blipFill>
            <a:blip r:embed="rId15"/>
            <a:srcRect l="8795" t="6846" r="12062" b="0"/>
            <a:stretch/>
          </p:blipFill>
          <p:spPr>
            <a:xfrm>
              <a:off x="106565760" y="1064973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61" name=""/>
            <p:cNvSpPr txBox="1"/>
            <p:nvPr/>
          </p:nvSpPr>
          <p:spPr>
            <a:xfrm>
              <a:off x="107365680" y="1089658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105354360" y="10649736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110337480" y="10649736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105354360" y="10649736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113715720" y="10649736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109994760" y="10965168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20944800">
            <a:off x="106451280" y="109423080"/>
            <a:ext cx="7567560" cy="18576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1"/>
          <a:stretch/>
        </p:blipFill>
        <p:spPr>
          <a:xfrm>
            <a:off x="105879960" y="10667988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2"/>
          <a:stretch/>
        </p:blipFill>
        <p:spPr>
          <a:xfrm>
            <a:off x="105316200" y="106679880"/>
            <a:ext cx="9821880" cy="720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3"/>
          <a:stretch/>
        </p:blipFill>
        <p:spPr>
          <a:xfrm>
            <a:off x="105413040" y="1067943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4"/>
          <a:stretch/>
        </p:blipFill>
        <p:spPr>
          <a:xfrm>
            <a:off x="105490800" y="1129665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5"/>
          <a:stretch/>
        </p:blipFill>
        <p:spPr>
          <a:xfrm>
            <a:off x="105768720" y="10782288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20641800">
            <a:off x="105652800" y="109094760"/>
            <a:ext cx="4108680" cy="12855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6"/>
          <a:stretch/>
        </p:blipFill>
        <p:spPr>
          <a:xfrm>
            <a:off x="105536880" y="1086231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 rot="21421800">
            <a:off x="108403560" y="1093021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111709080" y="1070229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9"/>
          <a:stretch/>
        </p:blipFill>
        <p:spPr>
          <a:xfrm>
            <a:off x="105565680" y="1069466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0"/>
          <a:stretch/>
        </p:blipFill>
        <p:spPr>
          <a:xfrm>
            <a:off x="105643440" y="1131188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1"/>
          <a:stretch/>
        </p:blipFill>
        <p:spPr>
          <a:xfrm>
            <a:off x="105921000" y="10797552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0641800">
            <a:off x="105805440" y="10924704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2"/>
          <a:stretch/>
        </p:blipFill>
        <p:spPr>
          <a:xfrm>
            <a:off x="105717960" y="1070992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3"/>
          <a:stretch/>
        </p:blipFill>
        <p:spPr>
          <a:xfrm>
            <a:off x="105795720" y="1132714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4"/>
          <a:stretch/>
        </p:blipFill>
        <p:spPr>
          <a:xfrm>
            <a:off x="106073640" y="108127800"/>
            <a:ext cx="902952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 rot="20641800">
            <a:off x="105957720" y="10939932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5"/>
          <a:stretch/>
        </p:blipFill>
        <p:spPr>
          <a:xfrm>
            <a:off x="105689520" y="108775440"/>
            <a:ext cx="4889520" cy="456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6"/>
          <a:stretch/>
        </p:blipFill>
        <p:spPr>
          <a:xfrm rot="21421800">
            <a:off x="108556200" y="10945476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7"/>
          <a:stretch/>
        </p:blipFill>
        <p:spPr>
          <a:xfrm>
            <a:off x="111861720" y="107175240"/>
            <a:ext cx="3174840" cy="3543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8"/>
          <a:stretch/>
        </p:blipFill>
        <p:spPr>
          <a:xfrm>
            <a:off x="105841800" y="1089280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9"/>
          <a:stretch/>
        </p:blipFill>
        <p:spPr>
          <a:xfrm rot="21421800">
            <a:off x="108708480" y="1096070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0"/>
          <a:stretch/>
        </p:blipFill>
        <p:spPr>
          <a:xfrm>
            <a:off x="112014000" y="107327880"/>
            <a:ext cx="3174840" cy="3543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1"/>
          <a:stretch/>
        </p:blipFill>
        <p:spPr>
          <a:xfrm>
            <a:off x="105994080" y="1090803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2"/>
          <a:stretch/>
        </p:blipFill>
        <p:spPr>
          <a:xfrm rot="21421800">
            <a:off x="108860760" y="1097593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3"/>
          <a:stretch/>
        </p:blipFill>
        <p:spPr>
          <a:xfrm>
            <a:off x="112166280" y="1074801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4"/>
          <a:stretch/>
        </p:blipFill>
        <p:spPr>
          <a:xfrm>
            <a:off x="105507000" y="10665000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5"/>
          <a:stretch/>
        </p:blipFill>
        <p:spPr>
          <a:xfrm>
            <a:off x="110490120" y="106650000"/>
            <a:ext cx="4983120" cy="761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6"/>
          <a:stretch/>
        </p:blipFill>
        <p:spPr>
          <a:xfrm>
            <a:off x="105507000" y="106650000"/>
            <a:ext cx="1604880" cy="1807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7"/>
          <a:stretch/>
        </p:blipFill>
        <p:spPr>
          <a:xfrm>
            <a:off x="113868360" y="106650000"/>
            <a:ext cx="1604880" cy="18079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06718040" y="106650000"/>
            <a:ext cx="7201080" cy="7680240"/>
            <a:chOff x="106718040" y="106650000"/>
            <a:chExt cx="7201080" cy="7680240"/>
          </a:xfrm>
        </p:grpSpPr>
        <p:pic>
          <p:nvPicPr>
            <p:cNvPr id="99" name="" descr=""/>
            <p:cNvPicPr/>
            <p:nvPr/>
          </p:nvPicPr>
          <p:blipFill>
            <a:blip r:embed="rId48"/>
            <a:srcRect l="8795" t="6846" r="12062" b="0"/>
            <a:stretch/>
          </p:blipFill>
          <p:spPr>
            <a:xfrm>
              <a:off x="106718040" y="1066500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0" name=""/>
            <p:cNvSpPr txBox="1"/>
            <p:nvPr/>
          </p:nvSpPr>
          <p:spPr>
            <a:xfrm>
              <a:off x="107517960" y="1091185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6870680" y="106802280"/>
            <a:ext cx="7200720" cy="7680240"/>
            <a:chOff x="106870680" y="106802280"/>
            <a:chExt cx="7200720" cy="7680240"/>
          </a:xfrm>
        </p:grpSpPr>
        <p:pic>
          <p:nvPicPr>
            <p:cNvPr id="102" name="" descr=""/>
            <p:cNvPicPr/>
            <p:nvPr/>
          </p:nvPicPr>
          <p:blipFill>
            <a:blip r:embed="rId49"/>
            <a:srcRect l="8795" t="6846" r="12062" b="0"/>
            <a:stretch/>
          </p:blipFill>
          <p:spPr>
            <a:xfrm>
              <a:off x="106870680" y="1068022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07670600" y="1092708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07022960" y="106954560"/>
            <a:ext cx="7200720" cy="7680240"/>
            <a:chOff x="107022960" y="106954560"/>
            <a:chExt cx="7200720" cy="7680240"/>
          </a:xfrm>
        </p:grpSpPr>
        <p:pic>
          <p:nvPicPr>
            <p:cNvPr id="105" name="" descr=""/>
            <p:cNvPicPr/>
            <p:nvPr/>
          </p:nvPicPr>
          <p:blipFill>
            <a:blip r:embed="rId50"/>
            <a:srcRect l="8795" t="6846" r="12062" b="0"/>
            <a:stretch/>
          </p:blipFill>
          <p:spPr>
            <a:xfrm>
              <a:off x="107022960" y="1069545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6" name=""/>
            <p:cNvSpPr txBox="1"/>
            <p:nvPr/>
          </p:nvSpPr>
          <p:spPr>
            <a:xfrm>
              <a:off x="107822880" y="1094230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184880" y="107670600"/>
            <a:ext cx="7200720" cy="7680240"/>
            <a:chOff x="106184880" y="107670600"/>
            <a:chExt cx="7200720" cy="7680240"/>
          </a:xfrm>
        </p:grpSpPr>
        <p:pic>
          <p:nvPicPr>
            <p:cNvPr id="108" name="" descr=""/>
            <p:cNvPicPr/>
            <p:nvPr/>
          </p:nvPicPr>
          <p:blipFill>
            <a:blip r:embed="rId51"/>
            <a:srcRect l="8795" t="6846" r="12062" b="0"/>
            <a:stretch/>
          </p:blipFill>
          <p:spPr>
            <a:xfrm>
              <a:off x="106184880" y="10767060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06984800" y="11013912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7175240" y="107107200"/>
            <a:ext cx="7201080" cy="7680240"/>
            <a:chOff x="107175240" y="107107200"/>
            <a:chExt cx="7201080" cy="7680240"/>
          </a:xfrm>
        </p:grpSpPr>
        <p:pic>
          <p:nvPicPr>
            <p:cNvPr id="111" name="" descr=""/>
            <p:cNvPicPr/>
            <p:nvPr/>
          </p:nvPicPr>
          <p:blipFill>
            <a:blip r:embed="rId52"/>
            <a:srcRect l="8795" t="6846" r="12062" b="0"/>
            <a:stretch/>
          </p:blipFill>
          <p:spPr>
            <a:xfrm>
              <a:off x="107175240" y="1071072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07975160" y="1095757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07327880" y="107259480"/>
            <a:ext cx="7200720" cy="7680240"/>
            <a:chOff x="107327880" y="107259480"/>
            <a:chExt cx="7200720" cy="7680240"/>
          </a:xfrm>
        </p:grpSpPr>
        <p:pic>
          <p:nvPicPr>
            <p:cNvPr id="114" name="" descr=""/>
            <p:cNvPicPr/>
            <p:nvPr/>
          </p:nvPicPr>
          <p:blipFill>
            <a:blip r:embed="rId53"/>
            <a:srcRect l="8795" t="6846" r="12062" b="0"/>
            <a:stretch/>
          </p:blipFill>
          <p:spPr>
            <a:xfrm>
              <a:off x="107327880" y="1072594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15" name=""/>
            <p:cNvSpPr txBox="1"/>
            <p:nvPr/>
          </p:nvSpPr>
          <p:spPr>
            <a:xfrm>
              <a:off x="108127800" y="1097280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06337160" y="107822880"/>
            <a:ext cx="7200720" cy="7680600"/>
            <a:chOff x="106337160" y="107822880"/>
            <a:chExt cx="7200720" cy="7680600"/>
          </a:xfrm>
        </p:grpSpPr>
        <p:pic>
          <p:nvPicPr>
            <p:cNvPr id="117" name="" descr=""/>
            <p:cNvPicPr/>
            <p:nvPr/>
          </p:nvPicPr>
          <p:blipFill>
            <a:blip r:embed="rId54"/>
            <a:srcRect l="8795" t="6846" r="12062" b="0"/>
            <a:stretch/>
          </p:blipFill>
          <p:spPr>
            <a:xfrm>
              <a:off x="106337160" y="107822880"/>
              <a:ext cx="7200720" cy="768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18" name=""/>
            <p:cNvSpPr txBox="1"/>
            <p:nvPr/>
          </p:nvSpPr>
          <p:spPr>
            <a:xfrm>
              <a:off x="107137080" y="1102914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7480160" y="107411760"/>
            <a:ext cx="7200720" cy="7680240"/>
            <a:chOff x="107480160" y="107411760"/>
            <a:chExt cx="7200720" cy="7680240"/>
          </a:xfrm>
        </p:grpSpPr>
        <p:pic>
          <p:nvPicPr>
            <p:cNvPr id="120" name="" descr=""/>
            <p:cNvPicPr/>
            <p:nvPr/>
          </p:nvPicPr>
          <p:blipFill>
            <a:blip r:embed="rId55"/>
            <a:srcRect l="8795" t="6846" r="12062" b="0"/>
            <a:stretch/>
          </p:blipFill>
          <p:spPr>
            <a:xfrm>
              <a:off x="107480160" y="1074117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21" name=""/>
            <p:cNvSpPr txBox="1"/>
            <p:nvPr/>
          </p:nvSpPr>
          <p:spPr>
            <a:xfrm>
              <a:off x="108280080" y="1098802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7632440" y="107564400"/>
            <a:ext cx="7201080" cy="7680240"/>
            <a:chOff x="107632440" y="107564400"/>
            <a:chExt cx="7201080" cy="7680240"/>
          </a:xfrm>
        </p:grpSpPr>
        <p:pic>
          <p:nvPicPr>
            <p:cNvPr id="123" name="" descr=""/>
            <p:cNvPicPr/>
            <p:nvPr/>
          </p:nvPicPr>
          <p:blipFill>
            <a:blip r:embed="rId56"/>
            <a:srcRect l="8795" t="6846" r="12062" b="0"/>
            <a:stretch/>
          </p:blipFill>
          <p:spPr>
            <a:xfrm>
              <a:off x="107632440" y="1075644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24" name=""/>
            <p:cNvSpPr txBox="1"/>
            <p:nvPr/>
          </p:nvSpPr>
          <p:spPr>
            <a:xfrm>
              <a:off x="108432360" y="1100329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7785080" y="107716680"/>
            <a:ext cx="7200720" cy="7680240"/>
            <a:chOff x="107785080" y="107716680"/>
            <a:chExt cx="7200720" cy="7680240"/>
          </a:xfrm>
        </p:grpSpPr>
        <p:pic>
          <p:nvPicPr>
            <p:cNvPr id="126" name="" descr=""/>
            <p:cNvPicPr/>
            <p:nvPr/>
          </p:nvPicPr>
          <p:blipFill>
            <a:blip r:embed="rId57"/>
            <a:srcRect l="8795" t="6846" r="12062" b="0"/>
            <a:stretch/>
          </p:blipFill>
          <p:spPr>
            <a:xfrm>
              <a:off x="107785080" y="1077166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27" name=""/>
            <p:cNvSpPr txBox="1"/>
            <p:nvPr/>
          </p:nvSpPr>
          <p:spPr>
            <a:xfrm>
              <a:off x="108585000" y="1101852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07937360" y="107868960"/>
            <a:ext cx="7200720" cy="7680240"/>
            <a:chOff x="107937360" y="107868960"/>
            <a:chExt cx="7200720" cy="7680240"/>
          </a:xfrm>
        </p:grpSpPr>
        <p:pic>
          <p:nvPicPr>
            <p:cNvPr id="129" name="" descr=""/>
            <p:cNvPicPr/>
            <p:nvPr/>
          </p:nvPicPr>
          <p:blipFill>
            <a:blip r:embed="rId58"/>
            <a:srcRect l="8795" t="6846" r="12062" b="0"/>
            <a:stretch/>
          </p:blipFill>
          <p:spPr>
            <a:xfrm>
              <a:off x="107937360" y="1078689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30" name=""/>
            <p:cNvSpPr txBox="1"/>
            <p:nvPr/>
          </p:nvSpPr>
          <p:spPr>
            <a:xfrm>
              <a:off x="108737280" y="1103374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8051480" y="108051480"/>
            <a:ext cx="7201080" cy="7680600"/>
            <a:chOff x="108051480" y="108051480"/>
            <a:chExt cx="7201080" cy="7680600"/>
          </a:xfrm>
        </p:grpSpPr>
        <p:pic>
          <p:nvPicPr>
            <p:cNvPr id="132" name="" descr=""/>
            <p:cNvPicPr/>
            <p:nvPr/>
          </p:nvPicPr>
          <p:blipFill>
            <a:blip r:embed="rId59"/>
            <a:srcRect l="8795" t="6846" r="12062" b="0"/>
            <a:stretch/>
          </p:blipFill>
          <p:spPr>
            <a:xfrm>
              <a:off x="108051480" y="108051480"/>
              <a:ext cx="7201080" cy="768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33" name=""/>
            <p:cNvSpPr txBox="1"/>
            <p:nvPr/>
          </p:nvSpPr>
          <p:spPr>
            <a:xfrm>
              <a:off x="108851400" y="11052000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60"/>
          <a:stretch/>
        </p:blipFill>
        <p:spPr>
          <a:xfrm>
            <a:off x="110147040" y="109804320"/>
            <a:ext cx="49150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 rot="20944800">
            <a:off x="106603920" y="10957572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1"/>
          <a:stretch/>
        </p:blipFill>
        <p:spPr>
          <a:xfrm>
            <a:off x="106032240" y="106832520"/>
            <a:ext cx="3543480" cy="4000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2"/>
          <a:stretch/>
        </p:blipFill>
        <p:spPr>
          <a:xfrm>
            <a:off x="110299680" y="10995660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 rot="20944800">
            <a:off x="106756200" y="10972800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3"/>
          <a:stretch/>
        </p:blipFill>
        <p:spPr>
          <a:xfrm>
            <a:off x="106184880" y="10698480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4"/>
          <a:stretch/>
        </p:blipFill>
        <p:spPr>
          <a:xfrm>
            <a:off x="533520" y="0"/>
            <a:ext cx="8076960" cy="6629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447920" y="1981080"/>
            <a:ext cx="6248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Night at the Osca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586728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MC900410979[1]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5867280" cy="5480280"/>
          </a:xfrm>
          <a:prstGeom prst="rect">
            <a:avLst/>
          </a:prstGeom>
          <a:ln w="0">
            <a:noFill/>
          </a:ln>
        </p:spPr>
      </p:pic>
      <p:pic>
        <p:nvPicPr>
          <p:cNvPr id="151" name="MC900012941[1]" descr=""/>
          <p:cNvPicPr/>
          <p:nvPr/>
        </p:nvPicPr>
        <p:blipFill>
          <a:blip r:embed="rId2"/>
          <a:stretch/>
        </p:blipFill>
        <p:spPr>
          <a:xfrm rot="21421800">
            <a:off x="4245120" y="694800"/>
            <a:ext cx="257328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06413480" y="106345080"/>
            <a:ext cx="7200720" cy="7680240"/>
            <a:chOff x="106413480" y="106345080"/>
            <a:chExt cx="7200720" cy="76802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8795" t="6846" r="12062" b="0"/>
            <a:stretch/>
          </p:blipFill>
          <p:spPr>
            <a:xfrm>
              <a:off x="106413480" y="1063450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54" name=""/>
            <p:cNvSpPr txBox="1"/>
            <p:nvPr/>
          </p:nvSpPr>
          <p:spPr>
            <a:xfrm>
              <a:off x="107213400" y="1088136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5384600" y="1084708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1421800">
            <a:off x="108251280" y="1091498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11556800" y="106870680"/>
            <a:ext cx="3174840" cy="35431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06565760" y="106497360"/>
            <a:ext cx="7200720" cy="7680240"/>
            <a:chOff x="106565760" y="106497360"/>
            <a:chExt cx="7200720" cy="7680240"/>
          </a:xfrm>
        </p:grpSpPr>
        <p:pic>
          <p:nvPicPr>
            <p:cNvPr id="159" name="" descr=""/>
            <p:cNvPicPr/>
            <p:nvPr/>
          </p:nvPicPr>
          <p:blipFill>
            <a:blip r:embed="rId5"/>
            <a:srcRect l="8795" t="6846" r="12062" b="0"/>
            <a:stretch/>
          </p:blipFill>
          <p:spPr>
            <a:xfrm>
              <a:off x="106565760" y="1064973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 txBox="1"/>
            <p:nvPr/>
          </p:nvSpPr>
          <p:spPr>
            <a:xfrm>
              <a:off x="107365680" y="1089658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6718040" y="106650000"/>
            <a:ext cx="7201080" cy="7680240"/>
            <a:chOff x="106718040" y="106650000"/>
            <a:chExt cx="7201080" cy="7680240"/>
          </a:xfrm>
        </p:grpSpPr>
        <p:pic>
          <p:nvPicPr>
            <p:cNvPr id="162" name="" descr=""/>
            <p:cNvPicPr/>
            <p:nvPr/>
          </p:nvPicPr>
          <p:blipFill>
            <a:blip r:embed="rId6"/>
            <a:srcRect l="8795" t="6846" r="12062" b="0"/>
            <a:stretch/>
          </p:blipFill>
          <p:spPr>
            <a:xfrm>
              <a:off x="106718040" y="1066500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 txBox="1"/>
            <p:nvPr/>
          </p:nvSpPr>
          <p:spPr>
            <a:xfrm>
              <a:off x="107517960" y="1091185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870680" y="106802280"/>
            <a:ext cx="7200720" cy="7680240"/>
            <a:chOff x="106870680" y="106802280"/>
            <a:chExt cx="7200720" cy="7680240"/>
          </a:xfrm>
        </p:grpSpPr>
        <p:pic>
          <p:nvPicPr>
            <p:cNvPr id="165" name="" descr=""/>
            <p:cNvPicPr/>
            <p:nvPr/>
          </p:nvPicPr>
          <p:blipFill>
            <a:blip r:embed="rId7"/>
            <a:srcRect l="8795" t="6846" r="12062" b="0"/>
            <a:stretch/>
          </p:blipFill>
          <p:spPr>
            <a:xfrm>
              <a:off x="106870680" y="10680228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07670600" y="10927080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07022960" y="106954560"/>
            <a:ext cx="7200720" cy="7680240"/>
            <a:chOff x="107022960" y="106954560"/>
            <a:chExt cx="7200720" cy="768024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rcRect l="8795" t="6846" r="12062" b="0"/>
            <a:stretch/>
          </p:blipFill>
          <p:spPr>
            <a:xfrm>
              <a:off x="107022960" y="106954560"/>
              <a:ext cx="720072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9" name=""/>
            <p:cNvSpPr txBox="1"/>
            <p:nvPr/>
          </p:nvSpPr>
          <p:spPr>
            <a:xfrm>
              <a:off x="107822880" y="109423080"/>
              <a:ext cx="571500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7175240" y="107107200"/>
            <a:ext cx="7201080" cy="7680240"/>
            <a:chOff x="107175240" y="107107200"/>
            <a:chExt cx="7201080" cy="7680240"/>
          </a:xfrm>
        </p:grpSpPr>
        <p:pic>
          <p:nvPicPr>
            <p:cNvPr id="171" name="" descr=""/>
            <p:cNvPicPr/>
            <p:nvPr/>
          </p:nvPicPr>
          <p:blipFill>
            <a:blip r:embed="rId9"/>
            <a:srcRect l="8795" t="6846" r="12062" b="0"/>
            <a:stretch/>
          </p:blipFill>
          <p:spPr>
            <a:xfrm>
              <a:off x="107175240" y="107107200"/>
              <a:ext cx="7201080" cy="7680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72" name=""/>
            <p:cNvSpPr txBox="1"/>
            <p:nvPr/>
          </p:nvSpPr>
          <p:spPr>
            <a:xfrm>
              <a:off x="107975160" y="109575720"/>
              <a:ext cx="5715360" cy="1285560"/>
            </a:xfrm>
            <a:prstGeom prst="rect">
              <a:avLst/>
            </a:prstGeom>
          </p:spPr>
          <p:txBody>
            <a:bodyPr wrap="none" lIns="36360" rIns="36360" tIns="36360" bIns="3636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cc99ff"/>
                    </a:solidFill>
                    <a:miter/>
                  </a:ln>
                  <a:solidFill>
                    <a:srgbClr val="660033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A Night at the Oscars</a:t>
              </a:r>
              <a:endParaRPr b="0" lang="en-US" sz="1800" spc="1" strike="noStrike">
                <a:ln w="38160">
                  <a:solidFill>
                    <a:srgbClr val="cc99ff"/>
                  </a:solidFill>
                  <a:miter/>
                </a:ln>
                <a:solidFill>
                  <a:srgbClr val="66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105536880" y="1086231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 rot="21421800">
            <a:off x="108403560" y="1093021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111709080" y="1070229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105689520" y="108775440"/>
            <a:ext cx="4889520" cy="4565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 rot="21421800">
            <a:off x="108556200" y="10945476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>
            <a:off x="111861720" y="107175240"/>
            <a:ext cx="3174840" cy="3543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>
            <a:off x="105260760" y="1066420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7"/>
          <a:stretch/>
        </p:blipFill>
        <p:spPr>
          <a:xfrm>
            <a:off x="105338520" y="11281428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8"/>
          <a:stretch/>
        </p:blipFill>
        <p:spPr>
          <a:xfrm>
            <a:off x="105616440" y="107670600"/>
            <a:ext cx="902952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 rot="20641800">
            <a:off x="105500520" y="10894212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9"/>
          <a:stretch/>
        </p:blipFill>
        <p:spPr>
          <a:xfrm>
            <a:off x="105841800" y="10892808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0"/>
          <a:stretch/>
        </p:blipFill>
        <p:spPr>
          <a:xfrm rot="21421800">
            <a:off x="108708480" y="109607040"/>
            <a:ext cx="2171520" cy="3321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1"/>
          <a:stretch/>
        </p:blipFill>
        <p:spPr>
          <a:xfrm>
            <a:off x="112014000" y="107327880"/>
            <a:ext cx="3174840" cy="3543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2"/>
          <a:stretch/>
        </p:blipFill>
        <p:spPr>
          <a:xfrm>
            <a:off x="105994080" y="109080360"/>
            <a:ext cx="4889520" cy="456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3"/>
          <a:stretch/>
        </p:blipFill>
        <p:spPr>
          <a:xfrm rot="21421800">
            <a:off x="108860760" y="109759320"/>
            <a:ext cx="2171880" cy="3321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4"/>
          <a:stretch/>
        </p:blipFill>
        <p:spPr>
          <a:xfrm>
            <a:off x="112166280" y="107480160"/>
            <a:ext cx="3175200" cy="3543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5"/>
          <a:stretch/>
        </p:blipFill>
        <p:spPr>
          <a:xfrm>
            <a:off x="105163920" y="106527600"/>
            <a:ext cx="9821880" cy="720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6"/>
          <a:stretch/>
        </p:blipFill>
        <p:spPr>
          <a:xfrm>
            <a:off x="105316200" y="106679880"/>
            <a:ext cx="9821880" cy="7201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7"/>
          <a:stretch/>
        </p:blipFill>
        <p:spPr>
          <a:xfrm>
            <a:off x="380880" y="228600"/>
            <a:ext cx="8382240" cy="609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8"/>
          <a:stretch/>
        </p:blipFill>
        <p:spPr>
          <a:xfrm>
            <a:off x="105413040" y="1067943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9"/>
          <a:stretch/>
        </p:blipFill>
        <p:spPr>
          <a:xfrm>
            <a:off x="105490800" y="112966560"/>
            <a:ext cx="9829800" cy="969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0"/>
          <a:stretch/>
        </p:blipFill>
        <p:spPr>
          <a:xfrm>
            <a:off x="105768720" y="10782288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 rot="20641800">
            <a:off x="105652800" y="109094760"/>
            <a:ext cx="4108680" cy="12855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1"/>
          <a:stretch/>
        </p:blipFill>
        <p:spPr>
          <a:xfrm>
            <a:off x="105565680" y="1069466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2"/>
          <a:stretch/>
        </p:blipFill>
        <p:spPr>
          <a:xfrm>
            <a:off x="105643440" y="113118840"/>
            <a:ext cx="9829800" cy="970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3"/>
          <a:stretch/>
        </p:blipFill>
        <p:spPr>
          <a:xfrm>
            <a:off x="105921000" y="107975520"/>
            <a:ext cx="9029880" cy="502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 rot="20641800">
            <a:off x="105805440" y="109247040"/>
            <a:ext cx="410832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vies Movies Mov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4"/>
          <a:stretch/>
        </p:blipFill>
        <p:spPr>
          <a:xfrm>
            <a:off x="109842480" y="10949940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20944800">
            <a:off x="106299000" y="10927080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5"/>
          <a:stretch/>
        </p:blipFill>
        <p:spPr>
          <a:xfrm>
            <a:off x="105727680" y="10652760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6"/>
          <a:stretch/>
        </p:blipFill>
        <p:spPr>
          <a:xfrm>
            <a:off x="109994760" y="109651680"/>
            <a:ext cx="491472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 rot="20944800">
            <a:off x="106451280" y="109423080"/>
            <a:ext cx="7567560" cy="18576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7"/>
          <a:stretch/>
        </p:blipFill>
        <p:spPr>
          <a:xfrm>
            <a:off x="105879960" y="106679880"/>
            <a:ext cx="3543120" cy="4000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8"/>
          <a:stretch/>
        </p:blipFill>
        <p:spPr>
          <a:xfrm>
            <a:off x="110147040" y="109804320"/>
            <a:ext cx="491508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 rot="20944800">
            <a:off x="106603920" y="109575720"/>
            <a:ext cx="7567560" cy="185724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roadway"/>
              </a:rPr>
              <a:t>Hooray for Hollyw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roadway"/>
              <a:ea typeface="Broadway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9"/>
          <a:stretch/>
        </p:blipFill>
        <p:spPr>
          <a:xfrm>
            <a:off x="106032240" y="106832520"/>
            <a:ext cx="3543480" cy="4000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0"/>
          <a:stretch/>
        </p:blipFill>
        <p:spPr>
          <a:xfrm>
            <a:off x="105202080" y="10634508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1"/>
          <a:stretch/>
        </p:blipFill>
        <p:spPr>
          <a:xfrm>
            <a:off x="110185200" y="10634508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2"/>
          <a:stretch/>
        </p:blipFill>
        <p:spPr>
          <a:xfrm>
            <a:off x="10520208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3"/>
          <a:stretch/>
        </p:blipFill>
        <p:spPr>
          <a:xfrm>
            <a:off x="113563440" y="10634508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4"/>
          <a:stretch/>
        </p:blipFill>
        <p:spPr>
          <a:xfrm>
            <a:off x="105354360" y="106497360"/>
            <a:ext cx="4983120" cy="7680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5"/>
          <a:stretch/>
        </p:blipFill>
        <p:spPr>
          <a:xfrm>
            <a:off x="110337480" y="106497360"/>
            <a:ext cx="4983120" cy="7612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6"/>
          <a:stretch/>
        </p:blipFill>
        <p:spPr>
          <a:xfrm>
            <a:off x="105354360" y="106497360"/>
            <a:ext cx="1604880" cy="1808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7"/>
          <a:stretch/>
        </p:blipFill>
        <p:spPr>
          <a:xfrm>
            <a:off x="113715720" y="106497360"/>
            <a:ext cx="1604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0:45:09Z</dcterms:created>
  <dc:creator>Tom Dlugosz</dc:creator>
  <dc:description/>
  <dc:language>en-US</dc:language>
  <cp:lastModifiedBy>Patrick J. Mooney</cp:lastModifiedBy>
  <dcterms:modified xsi:type="dcterms:W3CDTF">2011-02-21T21:03:31Z</dcterms:modified>
  <cp:revision>3</cp:revision>
  <dc:subject/>
  <dc:title>Slide 1</dc:title>
</cp:coreProperties>
</file>